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A8F-5D7A-42BB-9536-6DE4F9D5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3D3-BB5B-4064-BA6F-702853A4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C3A-2506-4DF5-98D3-B45A7DF3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327-F115-4267-A1A5-4CC4DE56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451-DEC7-46FC-96BA-23F33894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063-125C-4BAA-B9DE-970B9041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31B-475A-48BF-9AB9-2DCFE09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54F-4B11-4E0C-BE75-5EF2DAB7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ADB-F6AC-42F5-BC0D-9F705B7C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900-AC78-4C25-A77D-9F5388A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4D0-F5F3-4F78-A036-27F9CF4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C4E-E995-480B-80A1-5E5DC7E3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12E0-43C5-4B68-9132-2EA725BB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civil-war/1862/november/perryville-battle.htm" TargetMode="External"/><Relationship Id="rId2" Type="http://schemas.openxmlformats.org/officeDocument/2006/relationships/hyperlink" Target="http://www.civilwaracademy.com/perryville.html" TargetMode="External"/><Relationship Id="rId3" Type="http://schemas.openxmlformats.org/officeDocument/2006/relationships/hyperlink" Target="http://www.civilwaracademy.com/perryville.html" TargetMode="External"/><Relationship Id="rId4" Type="http://schemas.openxmlformats.org/officeDocument/2006/relationships/hyperlink" Target="http://en.wikipedia.org/wiki/Battle_of_perryville" TargetMode="External"/><Relationship Id="rId5" Type="http://schemas.openxmlformats.org/officeDocument/2006/relationships/hyperlink" Target="http://en.wikipedia.org/wiki/Battle_of_perryville" TargetMode="External"/><Relationship Id="rId6" Type="http://schemas.openxmlformats.org/officeDocument/2006/relationships/hyperlink" Target="http://www.battleofperryville.com/" TargetMode="External"/><Relationship Id="rId7" Type="http://schemas.openxmlformats.org/officeDocument/2006/relationships/hyperlink" Target="http://www.battleofperryville.com/" TargetMode="External"/><Relationship Id="rId8" Type="http://schemas.openxmlformats.org/officeDocument/2006/relationships/hyperlink" Target="http://www.battleofperryville.com/" TargetMode="External"/><Relationship Id="rId9" Type="http://schemas.openxmlformats.org/officeDocument/2006/relationships/hyperlink" Target="http://www.monacorarecoins.com/rare-coin-articles/battle-of-perryville/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nglish111 Vivace BT"/>
              </a:rPr>
              <a:t>The Battle of Perryvil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Katie Bl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tle of Perryv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ttle of Perryville, fought October 8, 1862, was also known as Chaplin H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reasons as to why the war was fought in Perryville was because The Confederates stopped here to stay between the Union army and a supply depot they had established at Bryants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on troops on the left flank, reinforced by two brigades, stabilized their line, and the Rebel attack sputtered to a ha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Yankees pursued, and skirmishing occurred in the streets in the evening before dark. Union reinforcements were threatening the Rebel left flank by 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rgest battle in Kentucky, Perryville was the "high water mark" for the Confederates in the Western Theater. Never again were the western confederates close to winning the wa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3048120"/>
          <a:ext cx="4021200" cy="26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048120"/>
                    <a:ext cx="40212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ttle of Perryv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600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95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Union                                    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fed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209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1700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28800"/>
            <a:ext cx="4724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ualties-4,276(894 killed 2,911 wounded 471 captured/miss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men-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s and leaders- Don Carlos Bue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M. McC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ictory- Considered a strategical vi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n by with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75248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ualties-3,401(532 killed 2,641 wounded 228 captured/mi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: 16,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s and leaders-    Braxton Bragg, Leonidas P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ictory- Considered a tactical victory for the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gg ended up withdra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Perryville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ragg’s               vs.                     Bu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395360" y="2590920"/>
            <a:ext cx="2086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of c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onofthesouth.net/leefoundation/civil-war/1862/november/perryville-battle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vilwaracademy.com/perryville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n.wikipedia.org/wiki/Battle_of_perryvil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battleofperryville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onacorarecoins.com/rare-coin-articles/battle-of-perryville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blogs.ancestry.com/ancestry/2007/12/05/new-military-backgrounds-available-in-ancestrypres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3datadesign.com/gallery/images/wallpapaers1/military/48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istory-map.com/picture/004/Perryville-Kyntucky-Battle-of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entre.edu/web/library/sc/special/perryville/facts.htm#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22:34:41Z</dcterms:created>
  <dc:creator>LEONOR</dc:creator>
  <dc:description/>
  <dc:language>en-US</dc:language>
  <cp:lastModifiedBy>LEONOR</cp:lastModifiedBy>
  <dcterms:modified xsi:type="dcterms:W3CDTF">2011-09-13T01:49:32Z</dcterms:modified>
  <cp:revision>4</cp:revision>
  <dc:subject/>
  <dc:title>The Battle of Perryville</dc:title>
</cp:coreProperties>
</file>